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382-9E9C-4804-A92F-8C6539ABAB2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B645-94D0-4365-A8FD-CDF4255211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39B4-F417-4C2C-86EC-C4C211F72C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5B41-1B41-4EA3-8177-D1DD6693972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9FED-68DB-4E4D-832E-9D5BB63B957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D1D-9B1E-4483-AF72-1CCE9B52477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ACAE-789C-4825-B06E-1A859817D0A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A4E6-0568-4FEC-917B-462C868CC7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AC2-7587-4E41-B249-83CA0A8C536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7CD8-8B1A-4076-AAAF-E1E44A1FBAA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F804-8FD3-4567-B41E-345C1F0ECA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4CA-DAC1-4F11-B630-924D8C1F319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9F7C-7D17-4516-86EB-11AE1C4595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032-1FBA-4BBA-B2E3-C9071E8EAFF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437D-6A39-40EA-AA85-16A87659BE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0B0-990A-4C6F-8F9C-7B32FD16AB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33E5-401E-4204-BB57-E734DBAC2BC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38A4-6952-4168-97EB-4AE1696957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A3F9-7E2D-4BF6-ABC7-CBD94361D4B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0518-CC03-491D-B850-DC053E76699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162-5A9F-45BB-9D92-4D8DE62B351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4FA0-CA24-45E4-B4D5-D321E6F9119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35C-ED97-4E33-AC95-E8BF8DB14F0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5697-6E80-45E7-B7EB-427C342F00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79BE-75D7-4056-841E-EAC3627A1BF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0809-5C0D-4289-936F-1D79987DD1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9C47-6182-4B1E-B051-549809B963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21F8-4E66-4575-8F40-DF37FE3C4A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D9A7-6292-4564-B56B-B95A639BB6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D6D-C939-4168-B80A-0A3F900FF2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729-5930-4760-B711-59AE0412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0B4-D8A5-463E-B9F4-3F4D04C8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C1C-DFE1-4FFC-BFA9-06EC6AFB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E94-AC18-44A0-A3D1-18D3985E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C0C-AB31-48F0-8655-D42BB12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C64-11A2-40AA-A60A-B4B06C1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1A3-3739-4352-A49F-4BEAF83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4C3-D4DF-45BE-9D16-510F0B3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618-A108-4D5E-86FE-964D5D7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9CF-C481-4029-A954-86E9AED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13A-7CF0-4FED-898D-6E6203F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4FB-9A81-4133-847D-E1C803F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9162-DC2D-4440-9289-CE2F0469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4829040" cy="344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60000" y="246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° = -RT l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5172120" y="3154320"/>
            <a:ext cx="1357200" cy="887400"/>
          </a:xfrm>
          <a:prstGeom prst="cloudCallout">
            <a:avLst>
              <a:gd name="adj1" fmla="val -44384"/>
              <a:gd name="adj2" fmla="val 62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029280" y="3554280"/>
            <a:ext cx="1357200" cy="887400"/>
          </a:xfrm>
          <a:prstGeom prst="cloudCallout">
            <a:avLst>
              <a:gd name="adj1" fmla="val -44384"/>
              <a:gd name="adj2" fmla="val 62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592280" y="3254400"/>
            <a:ext cx="1461960" cy="965160"/>
          </a:xfrm>
          <a:prstGeom prst="cloudCallout">
            <a:avLst>
              <a:gd name="adj1" fmla="val -33171"/>
              <a:gd name="adj2" fmla="val 72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4692600" y="2239920"/>
            <a:ext cx="1293840" cy="770040"/>
          </a:xfrm>
          <a:prstGeom prst="wedgeEllipseCallout">
            <a:avLst>
              <a:gd name="adj1" fmla="val -62884"/>
              <a:gd name="adj2" fmla="val 60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98720" y="1066680"/>
            <a:ext cx="610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ЕЛЕКТРОХЕМИЈСК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ХЕМИЈСКИ ИЗВОРИ СТРУ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1522440" y="593424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7603560" y="65278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дељ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54680" y="38088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ЛЕКТРОХ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1528920" y="588312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457200" y="1523880"/>
            <a:ext cx="82296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тандард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лектрод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а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мотор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а, или потенцијал ћелије Е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н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ОКСИДАЦИО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CS" sz="2400" spc="-1" strike="noStrike" baseline="-25000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РЕДУКЦИОНИ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lang="sr-CS" sz="2400" spc="-1" strike="noStrike" baseline="-25000">
                <a:solidFill>
                  <a:srgbClr val="333399"/>
                </a:solidFill>
                <a:latin typeface="Arial"/>
              </a:rPr>
              <a:t>ред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Straight Arrow Connector 19"/>
          <p:cNvCxnSpPr/>
          <p:nvPr/>
        </p:nvCxnSpPr>
        <p:spPr>
          <a:xfrm flipV="1">
            <a:off x="3198960" y="1447560"/>
            <a:ext cx="2160" cy="3659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" name="TextBox 20"/>
          <p:cNvSpPr/>
          <p:nvPr/>
        </p:nvSpPr>
        <p:spPr>
          <a:xfrm rot="16200000">
            <a:off x="2251440" y="3057480"/>
            <a:ext cx="140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 ред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2895480" y="762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ше позит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2743200" y="5181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ше негат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4"/>
          <p:cNvSpPr/>
          <p:nvPr/>
        </p:nvSpPr>
        <p:spPr>
          <a:xfrm>
            <a:off x="3200400" y="2057400"/>
            <a:ext cx="1523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5"/>
          <p:cNvSpPr/>
          <p:nvPr/>
        </p:nvSpPr>
        <p:spPr>
          <a:xfrm>
            <a:off x="3200400" y="4419720"/>
            <a:ext cx="1523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6"/>
          <p:cNvSpPr/>
          <p:nvPr/>
        </p:nvSpPr>
        <p:spPr>
          <a:xfrm>
            <a:off x="3276720" y="1371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ода редук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7"/>
          <p:cNvSpPr/>
          <p:nvPr/>
        </p:nvSpPr>
        <p:spPr>
          <a:xfrm>
            <a:off x="3276720" y="441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ода  оксид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30"/>
          <p:cNvCxnSpPr/>
          <p:nvPr/>
        </p:nvCxnSpPr>
        <p:spPr>
          <a:xfrm flipH="1">
            <a:off x="3962160" y="2057400"/>
            <a:ext cx="2160" cy="236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TextBox 31"/>
          <p:cNvSpPr/>
          <p:nvPr/>
        </p:nvSpPr>
        <p:spPr>
          <a:xfrm>
            <a:off x="4772520" y="1905120"/>
            <a:ext cx="97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</a:rPr>
              <a:t>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4764600" y="4191120"/>
            <a:ext cx="84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о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3608280" y="2895480"/>
            <a:ext cx="7142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943600" y="3809880"/>
            <a:ext cx="2971800" cy="198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гат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тпуш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извод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јо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грирај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867280" y="380880"/>
            <a:ext cx="3048120" cy="2210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зит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рош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јо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грирај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19720" y="2971800"/>
            <a:ext cx="4190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ал 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18288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4419720"/>
            <a:ext cx="2819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819520"/>
            <a:ext cx="2133720" cy="105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ал  ћелије 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Up Arrow 40"/>
          <p:cNvSpPr/>
          <p:nvPr/>
        </p:nvSpPr>
        <p:spPr>
          <a:xfrm>
            <a:off x="228600" y="23623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41"/>
          <p:cNvSpPr/>
          <p:nvPr/>
        </p:nvSpPr>
        <p:spPr>
          <a:xfrm>
            <a:off x="228600" y="380988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fig17_06"/>
          <p:cNvPicPr/>
          <p:nvPr/>
        </p:nvPicPr>
        <p:blipFill>
          <a:blip r:embed="rId1"/>
          <a:srcRect l="15835" t="-3032" r="0" b="0"/>
          <a:stretch/>
        </p:blipFill>
        <p:spPr>
          <a:xfrm>
            <a:off x="1295280" y="1289160"/>
            <a:ext cx="6249960" cy="5568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2286360" y="2133720"/>
            <a:ext cx="730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ан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432240" y="2133720"/>
            <a:ext cx="447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109120" y="2133720"/>
            <a:ext cx="47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28600" y="2590920"/>
            <a:ext cx="2666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6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0.76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6096600" y="2133720"/>
            <a:ext cx="98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+ кат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6248520" y="2514600"/>
            <a:ext cx="2666880" cy="1260720"/>
          </a:xfrm>
          <a:prstGeom prst="rect">
            <a:avLst/>
          </a:prstGeom>
          <a:solidFill>
            <a:srgbClr val="9ed3d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2"/>
          <p:cNvCxnSpPr/>
          <p:nvPr/>
        </p:nvCxnSpPr>
        <p:spPr>
          <a:xfrm>
            <a:off x="4419720" y="2743200"/>
            <a:ext cx="381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Straight Arrow Connector 14"/>
          <p:cNvCxnSpPr/>
          <p:nvPr/>
        </p:nvCxnSpPr>
        <p:spPr>
          <a:xfrm flipH="1" flipV="1">
            <a:off x="4419360" y="2971440"/>
            <a:ext cx="3052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0" name="Rectangle 6"/>
          <p:cNvSpPr/>
          <p:nvPr/>
        </p:nvSpPr>
        <p:spPr>
          <a:xfrm>
            <a:off x="-76320" y="0"/>
            <a:ext cx="922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455760" indent="-45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  напонске ћелије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0880" y="609480"/>
            <a:ext cx="281952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0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76 + 0.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1.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5867280" y="609480"/>
            <a:ext cx="30481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0.34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(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0.76) =1.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3608640" y="762120"/>
            <a:ext cx="187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=1.1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19"/>
          <p:cNvSpPr/>
          <p:nvPr/>
        </p:nvSpPr>
        <p:spPr>
          <a:xfrm>
            <a:off x="3200400" y="114300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 Arrow 20"/>
          <p:cNvSpPr/>
          <p:nvPr/>
        </p:nvSpPr>
        <p:spPr>
          <a:xfrm>
            <a:off x="5562720" y="1219320"/>
            <a:ext cx="304560" cy="228600"/>
          </a:xfrm>
          <a:prstGeom prst="lef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3"/>
          <p:cNvSpPr/>
          <p:nvPr/>
        </p:nvSpPr>
        <p:spPr>
          <a:xfrm>
            <a:off x="320328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55652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724280" y="0"/>
          <a:ext cx="4419720" cy="6867360"/>
        </p:xfrm>
        <a:graphic>
          <a:graphicData uri="http://schemas.openxmlformats.org/drawingml/2006/table">
            <a:tbl>
              <a:tblPr/>
              <a:tblGrid>
                <a:gridCol w="2438640"/>
                <a:gridCol w="198108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ciona polureakcija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redukcioni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al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i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l(s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 + C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F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9" name="Straight Arrow Connector 6"/>
          <p:cNvCxnSpPr/>
          <p:nvPr/>
        </p:nvCxnSpPr>
        <p:spPr>
          <a:xfrm>
            <a:off x="3580920" y="2133720"/>
            <a:ext cx="1143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Straight Arrow Connector 14"/>
          <p:cNvCxnSpPr/>
          <p:nvPr/>
        </p:nvCxnSpPr>
        <p:spPr>
          <a:xfrm>
            <a:off x="3886200" y="464832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Straight Arrow Connector 23"/>
          <p:cNvCxnSpPr/>
          <p:nvPr/>
        </p:nvCxnSpPr>
        <p:spPr>
          <a:xfrm>
            <a:off x="4343400" y="3123720"/>
            <a:ext cx="3816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Straight Arrow Connector 26"/>
          <p:cNvCxnSpPr/>
          <p:nvPr/>
        </p:nvCxnSpPr>
        <p:spPr>
          <a:xfrm flipH="1">
            <a:off x="4417200" y="2135160"/>
            <a:ext cx="3960" cy="991440"/>
          </a:xfrm>
          <a:prstGeom prst="straightConnector1">
            <a:avLst/>
          </a:prstGeom>
          <a:ln w="9360">
            <a:solidFill>
              <a:srgbClr val="66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" name="Straight Arrow Connector 30"/>
          <p:cNvCxnSpPr/>
          <p:nvPr/>
        </p:nvCxnSpPr>
        <p:spPr>
          <a:xfrm flipH="1">
            <a:off x="3962160" y="2133360"/>
            <a:ext cx="2160" cy="25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Straight Arrow Connector 32"/>
          <p:cNvCxnSpPr/>
          <p:nvPr/>
        </p:nvCxnSpPr>
        <p:spPr>
          <a:xfrm flipH="1">
            <a:off x="4570200" y="2134800"/>
            <a:ext cx="3600" cy="686520"/>
          </a:xfrm>
          <a:prstGeom prst="straightConnector1">
            <a:avLst/>
          </a:prstGeom>
          <a:ln w="936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Straight Arrow Connector 33"/>
          <p:cNvCxnSpPr/>
          <p:nvPr/>
        </p:nvCxnSpPr>
        <p:spPr>
          <a:xfrm>
            <a:off x="4571640" y="2819520"/>
            <a:ext cx="153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Straight Arrow Connector 36"/>
          <p:cNvCxnSpPr/>
          <p:nvPr/>
        </p:nvCxnSpPr>
        <p:spPr>
          <a:xfrm>
            <a:off x="3429000" y="4876920"/>
            <a:ext cx="1296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Straight Arrow Connector 39"/>
          <p:cNvCxnSpPr/>
          <p:nvPr/>
        </p:nvCxnSpPr>
        <p:spPr>
          <a:xfrm flipH="1">
            <a:off x="3733560" y="2133720"/>
            <a:ext cx="2160" cy="2743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8" name="Rectangle 8"/>
          <p:cNvSpPr/>
          <p:nvPr/>
        </p:nvSpPr>
        <p:spPr>
          <a:xfrm>
            <a:off x="685800" y="13716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9480" y="4952880"/>
            <a:ext cx="2819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2362320"/>
            <a:ext cx="32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104760" y="5867280"/>
            <a:ext cx="432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Н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(га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16"/>
          <p:cNvCxnSpPr/>
          <p:nvPr/>
        </p:nvCxnSpPr>
        <p:spPr>
          <a:xfrm>
            <a:off x="4114440" y="39625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Straight Arrow Connector 18"/>
          <p:cNvCxnSpPr/>
          <p:nvPr/>
        </p:nvCxnSpPr>
        <p:spPr>
          <a:xfrm flipV="1">
            <a:off x="4191120" y="2133360"/>
            <a:ext cx="2160" cy="18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304920" y="380880"/>
            <a:ext cx="845820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ћел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2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25 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 тих разлога се сваки редукциони потенцијал мери у односу на стандардну водоничну електроду, која је увек једна полућелија у односу на коју се мери потенциј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етаљи о водоничној електроди су приказани у предавању 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3" descr="fig17_05"/>
          <p:cNvPicPr/>
          <p:nvPr/>
        </p:nvPicPr>
        <p:blipFill>
          <a:blip r:embed="rId1"/>
          <a:srcRect l="0" t="0" r="0" b="7541"/>
          <a:stretch/>
        </p:blipFill>
        <p:spPr>
          <a:xfrm>
            <a:off x="0" y="2921040"/>
            <a:ext cx="7696080" cy="3936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9"/>
          <p:cNvSpPr/>
          <p:nvPr/>
        </p:nvSpPr>
        <p:spPr>
          <a:xfrm>
            <a:off x="1147320" y="4724280"/>
            <a:ext cx="99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- АН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2817000" y="4648320"/>
            <a:ext cx="112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+ КАТ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понска ћелиј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–стандардни редукциони потенцијал у односу на редукцију водони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9920" y="10666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1920" y="1371600"/>
            <a:ext cx="44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+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059720" y="20368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4259160" y="259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4259160" y="2819520"/>
            <a:ext cx="242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670800" y="2593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4888080" y="24004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губи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2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1" lang="en-US" sz="2400" spc="-1" strike="noStrike" baseline="30000">
                <a:solidFill>
                  <a:srgbClr val="a5002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5245200" y="19540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5232240" y="1954080"/>
            <a:ext cx="272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942320" y="19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878080" y="1523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добиј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2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е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04920" y="2514600"/>
            <a:ext cx="26668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.76 + 0.0= 0.7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429000" y="2895480"/>
            <a:ext cx="3124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.0- ( -0.76) = 0.76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609480" y="6629400"/>
            <a:ext cx="39625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6906240" y="3657600"/>
            <a:ext cx="2233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одонична електрод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21"/>
          <p:cNvCxnSpPr>
            <a:stCxn id="203" idx="2"/>
          </p:cNvCxnSpPr>
          <p:nvPr/>
        </p:nvCxnSpPr>
        <p:spPr>
          <a:xfrm flipH="1">
            <a:off x="7619760" y="3965400"/>
            <a:ext cx="403920" cy="30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Означавање ћел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115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литички 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д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д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и теку</a:t>
            </a:r>
            <a:r>
              <a:rPr b="1" lang="sr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овом правцу од аноде ка 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031000" y="2133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143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3"/>
          <p:cNvCxnSpPr/>
          <p:nvPr/>
        </p:nvCxnSpPr>
        <p:spPr>
          <a:xfrm flipH="1">
            <a:off x="3199680" y="2133360"/>
            <a:ext cx="153000" cy="533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10" name="Left Brace 4"/>
          <p:cNvSpPr/>
          <p:nvPr/>
        </p:nvSpPr>
        <p:spPr>
          <a:xfrm rot="16200000">
            <a:off x="4038480" y="2361960"/>
            <a:ext cx="914400" cy="213372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2133720"/>
              <a:gd name="textAreaBottom" fmla="*/ 210996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eft Brace 20"/>
          <p:cNvSpPr/>
          <p:nvPr/>
        </p:nvSpPr>
        <p:spPr>
          <a:xfrm rot="16200000">
            <a:off x="1371600" y="2381400"/>
            <a:ext cx="914400" cy="213336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2133360"/>
              <a:gd name="textAreaBottom" fmla="*/ 210960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03480" y="194796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6"/>
          <p:cNvCxnSpPr/>
          <p:nvPr/>
        </p:nvCxnSpPr>
        <p:spPr>
          <a:xfrm>
            <a:off x="1447560" y="2133360"/>
            <a:ext cx="153000" cy="5338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14" name="Straight Arrow Connector 9"/>
          <p:cNvCxnSpPr>
            <a:stCxn id="207" idx="1"/>
          </p:cNvCxnSpPr>
          <p:nvPr/>
        </p:nvCxnSpPr>
        <p:spPr>
          <a:xfrm flipH="1">
            <a:off x="4876200" y="2319120"/>
            <a:ext cx="153000" cy="347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понске ћелиј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+ 2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600" spc="-1" strike="noStrike" baseline="30000">
                <a:solidFill>
                  <a:srgbClr val="000000"/>
                </a:solidFill>
                <a:latin typeface="Arial"/>
              </a:rPr>
              <a:t>оксид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2971800" y="2819520"/>
            <a:ext cx="520560" cy="303840"/>
            <a:chOff x="2971800" y="2819520"/>
            <a:chExt cx="520560" cy="303840"/>
          </a:xfrm>
        </p:grpSpPr>
        <p:sp>
          <p:nvSpPr>
            <p:cNvPr id="218" name="Freeform 5"/>
            <p:cNvSpPr/>
            <p:nvPr/>
          </p:nvSpPr>
          <p:spPr>
            <a:xfrm>
              <a:off x="2971800" y="281952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flipH="1" flipV="1">
              <a:off x="2971800" y="3021840"/>
              <a:ext cx="520560" cy="10116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-360 h 101160"/>
                <a:gd name="textAreaBottom" fmla="*/ 101160 h 10116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7"/>
          <p:cNvGrpSpPr/>
          <p:nvPr/>
        </p:nvGrpSpPr>
        <p:grpSpPr>
          <a:xfrm>
            <a:off x="3200400" y="3352680"/>
            <a:ext cx="520560" cy="304920"/>
            <a:chOff x="3200400" y="3352680"/>
            <a:chExt cx="520560" cy="304920"/>
          </a:xfrm>
        </p:grpSpPr>
        <p:sp>
          <p:nvSpPr>
            <p:cNvPr id="221" name="Freeform 8"/>
            <p:cNvSpPr/>
            <p:nvPr/>
          </p:nvSpPr>
          <p:spPr>
            <a:xfrm>
              <a:off x="3200400" y="335268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 flipH="1" flipV="1">
              <a:off x="3200400" y="355608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3276720" y="1752480"/>
            <a:ext cx="520560" cy="304920"/>
            <a:chOff x="3276720" y="1752480"/>
            <a:chExt cx="520560" cy="304920"/>
          </a:xfrm>
        </p:grpSpPr>
        <p:sp>
          <p:nvSpPr>
            <p:cNvPr id="224" name="Freeform 11"/>
            <p:cNvSpPr/>
            <p:nvPr/>
          </p:nvSpPr>
          <p:spPr>
            <a:xfrm>
              <a:off x="3276720" y="175248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 flipH="1" flipV="1">
              <a:off x="3276720" y="195588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1295280" y="41148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143000" y="5029200"/>
            <a:ext cx="40384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30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06280" y="392400"/>
            <a:ext cx="672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d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133280" y="13716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       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1784520" y="1477800"/>
            <a:ext cx="520560" cy="304920"/>
            <a:chOff x="1784520" y="1477800"/>
            <a:chExt cx="520560" cy="304920"/>
          </a:xfrm>
        </p:grpSpPr>
        <p:sp>
          <p:nvSpPr>
            <p:cNvPr id="232" name="Freeform 10"/>
            <p:cNvSpPr/>
            <p:nvPr/>
          </p:nvSpPr>
          <p:spPr>
            <a:xfrm>
              <a:off x="1784520" y="147780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 flipH="1" flipV="1">
              <a:off x="1784520" y="168120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2"/>
          <p:cNvSpPr/>
          <p:nvPr/>
        </p:nvSpPr>
        <p:spPr>
          <a:xfrm>
            <a:off x="5278680" y="137160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3"/>
          <p:cNvGrpSpPr/>
          <p:nvPr/>
        </p:nvGrpSpPr>
        <p:grpSpPr>
          <a:xfrm>
            <a:off x="7152840" y="1477800"/>
            <a:ext cx="521280" cy="304920"/>
            <a:chOff x="7152840" y="1477800"/>
            <a:chExt cx="521280" cy="304920"/>
          </a:xfrm>
        </p:grpSpPr>
        <p:sp>
          <p:nvSpPr>
            <p:cNvPr id="236" name="Freeform 14"/>
            <p:cNvSpPr/>
            <p:nvPr/>
          </p:nvSpPr>
          <p:spPr>
            <a:xfrm>
              <a:off x="7153200" y="1477800"/>
              <a:ext cx="520920" cy="1018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 flipH="1" flipV="1">
              <a:off x="7152480" y="1681200"/>
              <a:ext cx="520920" cy="101520"/>
            </a:xfrm>
            <a:custGeom>
              <a:avLst/>
              <a:gdLst>
                <a:gd name="textAreaLeft" fmla="*/ -360 w 520920"/>
                <a:gd name="textAreaRight" fmla="*/ 520920 w 52092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1"/>
          <p:cNvGrpSpPr/>
          <p:nvPr/>
        </p:nvGrpSpPr>
        <p:grpSpPr>
          <a:xfrm>
            <a:off x="4397400" y="3505320"/>
            <a:ext cx="4594320" cy="2579400"/>
            <a:chOff x="4397400" y="3505320"/>
            <a:chExt cx="4594320" cy="2579400"/>
          </a:xfrm>
        </p:grpSpPr>
        <p:sp>
          <p:nvSpPr>
            <p:cNvPr id="239" name="AutoShape 52"/>
            <p:cNvSpPr/>
            <p:nvPr/>
          </p:nvSpPr>
          <p:spPr>
            <a:xfrm>
              <a:off x="4397400" y="3505320"/>
              <a:ext cx="4594320" cy="25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3"/>
            <p:cNvSpPr/>
            <p:nvPr/>
          </p:nvSpPr>
          <p:spPr>
            <a:xfrm>
              <a:off x="6791040" y="4957560"/>
              <a:ext cx="1412640" cy="9810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4986000" y="4957560"/>
              <a:ext cx="1412640" cy="9810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60680" y="4643280"/>
              <a:ext cx="313920" cy="102024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6"/>
            <p:cNvSpPr/>
            <p:nvPr/>
          </p:nvSpPr>
          <p:spPr>
            <a:xfrm flipV="1">
              <a:off x="5456880" y="3818880"/>
              <a:ext cx="0" cy="824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7"/>
            <p:cNvSpPr/>
            <p:nvPr/>
          </p:nvSpPr>
          <p:spPr>
            <a:xfrm flipV="1">
              <a:off x="7772040" y="3818880"/>
              <a:ext cx="0" cy="824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>
              <a:off x="5456880" y="3819240"/>
              <a:ext cx="86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9"/>
            <p:cNvSpPr/>
            <p:nvPr/>
          </p:nvSpPr>
          <p:spPr>
            <a:xfrm flipH="1">
              <a:off x="6830280" y="3819240"/>
              <a:ext cx="9417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0"/>
            <p:cNvSpPr/>
            <p:nvPr/>
          </p:nvSpPr>
          <p:spPr>
            <a:xfrm>
              <a:off x="6123960" y="3505320"/>
              <a:ext cx="1807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3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1"/>
            <p:cNvSpPr/>
            <p:nvPr/>
          </p:nvSpPr>
          <p:spPr>
            <a:xfrm>
              <a:off x="6921720" y="3570480"/>
              <a:ext cx="196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7615080" y="4643280"/>
              <a:ext cx="313920" cy="102024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3"/>
            <p:cNvSpPr/>
            <p:nvPr/>
          </p:nvSpPr>
          <p:spPr>
            <a:xfrm>
              <a:off x="5238000" y="5043600"/>
              <a:ext cx="3589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4"/>
            <p:cNvSpPr/>
            <p:nvPr/>
          </p:nvSpPr>
          <p:spPr>
            <a:xfrm>
              <a:off x="7604640" y="5043600"/>
              <a:ext cx="3474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5"/>
            <p:cNvSpPr/>
            <p:nvPr/>
          </p:nvSpPr>
          <p:spPr>
            <a:xfrm>
              <a:off x="5927760" y="4178880"/>
              <a:ext cx="1334160" cy="1137960"/>
            </a:xfrm>
            <a:custGeom>
              <a:avLst/>
              <a:gdLst>
                <a:gd name="textAreaLeft" fmla="*/ 0 w 1334160"/>
                <a:gd name="textAreaRight" fmla="*/ 1334520 w 1334160"/>
                <a:gd name="textAreaTop" fmla="*/ 0 h 1137960"/>
                <a:gd name="textAreaBottom" fmla="*/ 406440 h 11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6"/>
            <p:cNvSpPr/>
            <p:nvPr/>
          </p:nvSpPr>
          <p:spPr>
            <a:xfrm>
              <a:off x="5929200" y="4748040"/>
              <a:ext cx="334800" cy="82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7"/>
            <p:cNvSpPr/>
            <p:nvPr/>
          </p:nvSpPr>
          <p:spPr>
            <a:xfrm>
              <a:off x="6924960" y="4748040"/>
              <a:ext cx="343080" cy="82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6356160" y="3583800"/>
              <a:ext cx="301320" cy="5101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9"/>
            <p:cNvSpPr/>
            <p:nvPr/>
          </p:nvSpPr>
          <p:spPr>
            <a:xfrm>
              <a:off x="5025240" y="5683320"/>
              <a:ext cx="917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Cd(NO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2(aq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0"/>
            <p:cNvSpPr/>
            <p:nvPr/>
          </p:nvSpPr>
          <p:spPr>
            <a:xfrm>
              <a:off x="7418880" y="5663880"/>
              <a:ext cx="7491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AgNO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3(aq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4397400" y="5193000"/>
              <a:ext cx="522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2"/>
            <p:cNvSpPr/>
            <p:nvPr/>
          </p:nvSpPr>
          <p:spPr>
            <a:xfrm>
              <a:off x="8282160" y="5193000"/>
              <a:ext cx="64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h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73"/>
            <p:cNvGrpSpPr/>
            <p:nvPr/>
          </p:nvGrpSpPr>
          <p:grpSpPr>
            <a:xfrm>
              <a:off x="6084360" y="4199400"/>
              <a:ext cx="1020600" cy="526680"/>
              <a:chOff x="6084360" y="4199400"/>
              <a:chExt cx="1020600" cy="526680"/>
            </a:xfrm>
          </p:grpSpPr>
          <p:sp>
            <p:nvSpPr>
              <p:cNvPr id="261" name="Text Box 74"/>
              <p:cNvSpPr/>
              <p:nvPr/>
            </p:nvSpPr>
            <p:spPr>
              <a:xfrm>
                <a:off x="6732360" y="4199400"/>
                <a:ext cx="2894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t">
                <a:normAutofit/>
              </a:bodyPr>
              <a:p>
                <a:pPr>
                  <a:spcBef>
                    <a:spcPts val="224"/>
                  </a:spcBef>
                  <a:buClr>
                    <a:srgbClr val="0000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r>
                  <a:rPr b="0" lang="en-US" sz="900" spc="-1" strike="noStrike" baseline="30000">
                    <a:solidFill>
                      <a:srgbClr val="000066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rc 75"/>
              <p:cNvSpPr/>
              <p:nvPr/>
            </p:nvSpPr>
            <p:spPr>
              <a:xfrm>
                <a:off x="6751800" y="4417560"/>
                <a:ext cx="353160" cy="30492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</a:path>
                  <a:path stroke="0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  <a:lnTo>
                      <a:pt x="0" y="18659"/>
                    </a:lnTo>
                    <a:lnTo>
                      <a:pt x="1088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rc 76"/>
              <p:cNvSpPr/>
              <p:nvPr/>
            </p:nvSpPr>
            <p:spPr>
              <a:xfrm flipH="1">
                <a:off x="6084000" y="4421160"/>
                <a:ext cx="353160" cy="304920"/>
              </a:xfrm>
              <a:custGeom>
                <a:avLst/>
                <a:gdLst>
                  <a:gd name="textAreaLeft" fmla="*/ -360 w 353160"/>
                  <a:gd name="textAreaRight" fmla="*/ 353160 w 35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</a:path>
                  <a:path stroke="0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  <a:lnTo>
                      <a:pt x="0" y="18659"/>
                    </a:lnTo>
                    <a:lnTo>
                      <a:pt x="1088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77"/>
              <p:cNvSpPr/>
              <p:nvPr/>
            </p:nvSpPr>
            <p:spPr>
              <a:xfrm>
                <a:off x="6202440" y="4199400"/>
                <a:ext cx="4910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t">
                <a:normAutofit/>
              </a:bodyPr>
              <a:p>
                <a:pPr>
                  <a:spcBef>
                    <a:spcPts val="300"/>
                  </a:spcBef>
                  <a:buClr>
                    <a:srgbClr val="0000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66"/>
                    </a:solidFill>
                    <a:latin typeface="Arial"/>
                  </a:rPr>
                  <a:t>NO</a:t>
                </a:r>
                <a:r>
                  <a:rPr b="0" lang="en-US" sz="900" spc="-1" strike="noStrike" baseline="-25000">
                    <a:solidFill>
                      <a:srgbClr val="000066"/>
                    </a:solidFill>
                    <a:latin typeface="Arial"/>
                  </a:rPr>
                  <a:t>3</a:t>
                </a:r>
                <a:r>
                  <a:rPr b="0" lang="en-US" sz="1200" spc="-1" strike="noStrike" baseline="30000">
                    <a:solidFill>
                      <a:srgbClr val="000066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8"/>
            <p:cNvGrpSpPr/>
            <p:nvPr/>
          </p:nvGrpSpPr>
          <p:grpSpPr>
            <a:xfrm>
              <a:off x="5025240" y="5657400"/>
              <a:ext cx="2955600" cy="274680"/>
              <a:chOff x="5025240" y="5657400"/>
              <a:chExt cx="2955600" cy="274680"/>
            </a:xfrm>
          </p:grpSpPr>
          <p:sp>
            <p:nvSpPr>
              <p:cNvPr id="266" name="Oval 79"/>
              <p:cNvSpPr/>
              <p:nvPr/>
            </p:nvSpPr>
            <p:spPr>
              <a:xfrm>
                <a:off x="5025240" y="5657400"/>
                <a:ext cx="274680" cy="27468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80"/>
              <p:cNvSpPr/>
              <p:nvPr/>
            </p:nvSpPr>
            <p:spPr>
              <a:xfrm>
                <a:off x="7608240" y="5657400"/>
                <a:ext cx="372600" cy="27468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81"/>
            <p:cNvGrpSpPr/>
            <p:nvPr/>
          </p:nvGrpSpPr>
          <p:grpSpPr>
            <a:xfrm>
              <a:off x="5258160" y="5571360"/>
              <a:ext cx="2403720" cy="417240"/>
              <a:chOff x="5258160" y="5571360"/>
              <a:chExt cx="2403720" cy="417240"/>
            </a:xfrm>
          </p:grpSpPr>
          <p:cxnSp>
            <p:nvCxnSpPr>
              <p:cNvPr id="269" name="AutoShape 82"/>
              <p:cNvCxnSpPr/>
              <p:nvPr/>
            </p:nvCxnSpPr>
            <p:spPr>
              <a:xfrm flipH="1" flipV="1" rot="5400000">
                <a:off x="5509800" y="5319720"/>
                <a:ext cx="330120" cy="833400"/>
              </a:xfrm>
              <a:prstGeom prst="curvedConnector5">
                <a:avLst>
                  <a:gd name="adj1" fmla="val -26528"/>
                  <a:gd name="adj2" fmla="val 50000"/>
                  <a:gd name="adj3" fmla="val -26528"/>
                </a:avLst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</p:cxnSp>
          <p:cxnSp>
            <p:nvCxnSpPr>
              <p:cNvPr id="270" name="AutoShape 83"/>
              <p:cNvCxnSpPr/>
              <p:nvPr/>
            </p:nvCxnSpPr>
            <p:spPr>
              <a:xfrm flipV="1" rot="16200000">
                <a:off x="7213680" y="5452920"/>
                <a:ext cx="330120" cy="567000"/>
              </a:xfrm>
              <a:prstGeom prst="curvedConnector5">
                <a:avLst>
                  <a:gd name="adj1" fmla="val -26528"/>
                  <a:gd name="adj2" fmla="val 50000"/>
                  <a:gd name="adj3" fmla="val -26528"/>
                </a:avLst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</p:cxnSp>
        </p:grpSp>
        <p:grpSp>
          <p:nvGrpSpPr>
            <p:cNvPr id="271" name="Group 84"/>
            <p:cNvGrpSpPr/>
            <p:nvPr/>
          </p:nvGrpSpPr>
          <p:grpSpPr>
            <a:xfrm>
              <a:off x="5222880" y="3559680"/>
              <a:ext cx="311760" cy="612360"/>
              <a:chOff x="5222880" y="3559680"/>
              <a:chExt cx="311760" cy="612360"/>
            </a:xfrm>
          </p:grpSpPr>
          <p:sp>
            <p:nvSpPr>
              <p:cNvPr id="272" name="AutoShape 85"/>
              <p:cNvSpPr/>
              <p:nvPr/>
            </p:nvSpPr>
            <p:spPr>
              <a:xfrm>
                <a:off x="5260320" y="3559680"/>
                <a:ext cx="274320" cy="353160"/>
              </a:xfrm>
              <a:custGeom>
                <a:avLst/>
                <a:gdLst>
                  <a:gd name="textAreaLeft" fmla="*/ 157680 w 274320"/>
                  <a:gd name="textAreaRight" fmla="*/ 231840 w 274320"/>
                  <a:gd name="textAreaTop" fmla="*/ 47160 h 353160"/>
                  <a:gd name="textAreaBottom" fmla="*/ 151200 h 35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6"/>
              <p:cNvSpPr/>
              <p:nvPr/>
            </p:nvSpPr>
            <p:spPr>
              <a:xfrm>
                <a:off x="5222880" y="3873600"/>
                <a:ext cx="2336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ctr">
                <a:normAutofit/>
              </a:bodyPr>
              <a:p>
                <a:pPr algn="ctr">
                  <a:spcBef>
                    <a:spcPts val="2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87"/>
            <p:cNvSpPr/>
            <p:nvPr/>
          </p:nvSpPr>
          <p:spPr>
            <a:xfrm>
              <a:off x="8100720" y="4172400"/>
              <a:ext cx="8773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-) char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88"/>
          <p:cNvSpPr/>
          <p:nvPr/>
        </p:nvSpPr>
        <p:spPr>
          <a:xfrm>
            <a:off x="5373720" y="18018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9"/>
          <p:cNvSpPr/>
          <p:nvPr/>
        </p:nvSpPr>
        <p:spPr>
          <a:xfrm>
            <a:off x="20520" y="254484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1219320" y="190980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1"/>
          <p:cNvSpPr/>
          <p:nvPr/>
        </p:nvSpPr>
        <p:spPr>
          <a:xfrm>
            <a:off x="3854520" y="2492280"/>
            <a:ext cx="441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.80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4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0520" y="3395520"/>
            <a:ext cx="38862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1"/>
          <p:cNvSpPr/>
          <p:nvPr/>
        </p:nvSpPr>
        <p:spPr>
          <a:xfrm>
            <a:off x="20520" y="4143240"/>
            <a:ext cx="3886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8"/>
          <p:cNvSpPr/>
          <p:nvPr/>
        </p:nvSpPr>
        <p:spPr>
          <a:xfrm>
            <a:off x="1676520" y="30481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НСТОВ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терије су уређаји у којима се хемијска енергија оксидоредукционих реакција  претвара у електричну енергију. Област физичке хемије која проуч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вар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ичну енергију назива се електрохе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ig17_13"/>
          <p:cNvPicPr/>
          <p:nvPr/>
        </p:nvPicPr>
        <p:blipFill>
          <a:blip r:embed="rId1"/>
          <a:stretch/>
        </p:blipFill>
        <p:spPr>
          <a:xfrm>
            <a:off x="609480" y="1600200"/>
            <a:ext cx="1390680" cy="2224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84480" y="39625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о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мул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fig17_14"/>
          <p:cNvPicPr/>
          <p:nvPr/>
        </p:nvPicPr>
        <p:blipFill>
          <a:blip r:embed="rId2"/>
          <a:stretch/>
        </p:blipFill>
        <p:spPr>
          <a:xfrm>
            <a:off x="3048120" y="1676520"/>
            <a:ext cx="1623960" cy="2133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207240" y="37339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fig17_15"/>
          <p:cNvPicPr/>
          <p:nvPr/>
        </p:nvPicPr>
        <p:blipFill>
          <a:blip r:embed="rId3"/>
          <a:srcRect l="0" t="0" r="0" b="16282"/>
          <a:stretch/>
        </p:blipFill>
        <p:spPr>
          <a:xfrm>
            <a:off x="5257800" y="1600200"/>
            <a:ext cx="305280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5277960" y="427824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ивина б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7522n17_16"/>
          <p:cNvPicPr/>
          <p:nvPr/>
        </p:nvPicPr>
        <p:blipFill>
          <a:blip r:embed="rId4"/>
          <a:stretch/>
        </p:blipFill>
        <p:spPr>
          <a:xfrm>
            <a:off x="609480" y="4267080"/>
            <a:ext cx="162900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2286000" y="472428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он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4"/>
          <p:cNvGraphicFramePr/>
          <p:nvPr/>
        </p:nvGraphicFramePr>
        <p:xfrm>
          <a:off x="5943600" y="4657680"/>
          <a:ext cx="276372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657680"/>
                    <a:ext cx="27637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7" descr="Image result for pacemaker principe"/>
          <p:cNvPicPr/>
          <p:nvPr/>
        </p:nvPicPr>
        <p:blipFill>
          <a:blip r:embed="rId7"/>
          <a:stretch/>
        </p:blipFill>
        <p:spPr>
          <a:xfrm>
            <a:off x="3886200" y="5181480"/>
            <a:ext cx="1828800" cy="149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4123800" y="4800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јсмејк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7"/>
          <p:cNvSpPr/>
          <p:nvPr/>
        </p:nvSpPr>
        <p:spPr>
          <a:xfrm>
            <a:off x="2349720" y="5544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Д-ОКС реакц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33520" y="677880"/>
                <a:ext cx="3811320" cy="22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TextBox 12"/>
          <p:cNvSpPr/>
          <p:nvPr/>
        </p:nvSpPr>
        <p:spPr>
          <a:xfrm>
            <a:off x="3626280" y="1500120"/>
            <a:ext cx="549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ксидација отпуштање 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едукција примање 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0" y="3048120"/>
                <a:ext cx="4214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Rectangle 14"/>
          <p:cNvSpPr/>
          <p:nvPr/>
        </p:nvSpPr>
        <p:spPr>
          <a:xfrm>
            <a:off x="0" y="520524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227160" indent="-22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ксимал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с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362320" y="4038480"/>
                <a:ext cx="3752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TextBox 8"/>
          <p:cNvSpPr/>
          <p:nvPr/>
        </p:nvSpPr>
        <p:spPr>
          <a:xfrm>
            <a:off x="4572000" y="2936880"/>
            <a:ext cx="3765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 чврсте супстан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3805200" y="38160"/>
                <a:ext cx="3971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557440" y="2135160"/>
                <a:ext cx="4942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562720" y="1371600"/>
                <a:ext cx="2305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3733920" y="3376440"/>
                <a:ext cx="4406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971800" y="1523880"/>
                <a:ext cx="2008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FE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94" name="Straight Arrow Connector 10"/>
          <p:cNvCxnSpPr/>
          <p:nvPr/>
        </p:nvCxnSpPr>
        <p:spPr>
          <a:xfrm>
            <a:off x="3181320" y="1866600"/>
            <a:ext cx="38160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Straight Arrow Connector 12"/>
          <p:cNvCxnSpPr/>
          <p:nvPr/>
        </p:nvCxnSpPr>
        <p:spPr>
          <a:xfrm flipH="1">
            <a:off x="5257440" y="1904760"/>
            <a:ext cx="534240" cy="610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6" name="TextBox 13"/>
          <p:cNvSpPr/>
          <p:nvPr/>
        </p:nvSpPr>
        <p:spPr>
          <a:xfrm>
            <a:off x="0" y="3454560"/>
            <a:ext cx="340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упни потенцијал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152280" y="506088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ал 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 при стандардним условима: концентрација 1 мол по лит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 =298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стандардни потенцијал електрохемијске ћели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17"/>
          <p:cNvCxnSpPr/>
          <p:nvPr/>
        </p:nvCxnSpPr>
        <p:spPr>
          <a:xfrm flipH="1">
            <a:off x="2944440" y="3992040"/>
            <a:ext cx="9295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Straight Arrow Connector 18"/>
          <p:cNvCxnSpPr>
            <a:endCxn id="297" idx="0"/>
          </p:cNvCxnSpPr>
          <p:nvPr/>
        </p:nvCxnSpPr>
        <p:spPr>
          <a:xfrm flipH="1">
            <a:off x="4723560" y="4240080"/>
            <a:ext cx="305640" cy="821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399960" y="0"/>
                <a:ext cx="304812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5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9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ме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радеје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228600" y="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елије: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27"/>
              <p:cNvSpPr txBox="1"/>
              <p:nvPr/>
            </p:nvSpPr>
            <p:spPr>
              <a:xfrm>
                <a:off x="2928960" y="2924280"/>
                <a:ext cx="298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"/>
              <p:cNvSpPr txBox="1"/>
              <p:nvPr/>
            </p:nvSpPr>
            <p:spPr>
              <a:xfrm>
                <a:off x="809640" y="1219320"/>
                <a:ext cx="33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5257800" y="1295280"/>
                <a:ext cx="2963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570040" y="2133720"/>
                <a:ext cx="400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266760" y="5450040"/>
                <a:ext cx="44132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48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7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5410080" y="5334120"/>
                <a:ext cx="29718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7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0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ОНТА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ВНО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"/>
              <p:cNvSpPr txBox="1"/>
              <p:nvPr/>
            </p:nvSpPr>
            <p:spPr>
              <a:xfrm>
                <a:off x="304920" y="1182600"/>
                <a:ext cx="298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5240" y="2438280"/>
                <a:ext cx="4406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5029200" y="2590920"/>
                <a:ext cx="3048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190440" y="4038480"/>
          <a:ext cx="8763120" cy="259092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600"/>
                <a:gridCol w="2190960"/>
              </a:tblGrid>
              <a:tr h="14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 проце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понтан проц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теж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4" name="Picture 7" descr=""/>
          <p:cNvPicPr/>
          <p:nvPr/>
        </p:nvPicPr>
        <p:blipFill>
          <a:blip r:embed="rId1"/>
          <a:stretch/>
        </p:blipFill>
        <p:spPr>
          <a:xfrm>
            <a:off x="5334120" y="719280"/>
            <a:ext cx="35812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380880" y="219240"/>
            <a:ext cx="830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АТЕ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теријама се назива  сет галванских, напонских ћелија које су повезане у сер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на електрода једне ћелије се повезује са позитивном електродом друге ћелије. Напон таквог сета ћелија је које су повезане у серију даје збир напона свих ћелија у с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 батерија од 9 волти саржи шест ћелија чији је напон 1.5 вол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ве батерије п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ју да прозводе струју када се  потроше реактанти, односно кад систем дође у равнотежу. Батерије могу бити оне које су примарне и које се након пражњења бацају а могу бити и секундарне  то су оне  које се регенеришу, тако што се довођењем електричне енергије одвија реверзибилни процес, који  се назива пуњење батериј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19.13.jpg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143000" y="7873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РАЗЛИЧИТИ ТИПОВИ БАТЕРИЈ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685800"/>
            <a:ext cx="8915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ве батерије садрже цинк као аноду и инертан графит као катоду. Електролит је влажна паста м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окс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и цинк хлор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амонијум хлор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 праха угље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а полуреакција 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9520" y="2971800"/>
          <a:ext cx="5334120" cy="517680"/>
        </p:xfrm>
        <a:graphic>
          <a:graphicData uri="http://schemas.openxmlformats.org/drawingml/2006/table">
            <a:tbl>
              <a:tblPr/>
              <a:tblGrid>
                <a:gridCol w="2284560"/>
                <a:gridCol w="815760"/>
                <a:gridCol w="2233800"/>
              </a:tblGrid>
              <a:tr h="57672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TextBox 3"/>
          <p:cNvSpPr/>
          <p:nvPr/>
        </p:nvSpPr>
        <p:spPr>
          <a:xfrm>
            <a:off x="0" y="3657600"/>
            <a:ext cx="9144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2e− → Mn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(s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ако да је укупна оксидоредукциона 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M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пон ов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 батерија износи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5 V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160" y="15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СУВЕ БАТЕРИЈ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28600" y="38160"/>
            <a:ext cx="853452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ЛКАЛН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илони алкалних батерија се произведе сваке године, у тим батеријама амонијум хлор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и цинкхлорид су замењени калијум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идрокси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KOH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луреакције у тим батеријама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и ступањ који се одиграва на ан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e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и ступањ који се одиграва на кат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e− → Mn(OH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купна реакција 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Mn(OH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у случају сваке ћелије укључене у алкалну батерију Напон једне ћелије је такођ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52280" y="304920"/>
            <a:ext cx="899172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лочасте  - минијатурне батерије – живин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вај тип батерија се у принципу користи за покретање сатних механизама, користе се у пејсмекерима или слушним апарат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вобитне батерије које су развијане као минијатурне плочасте („дугме“) батерије су имале следеће полур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а полуреакц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e−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а полу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g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+ 2e− → Hg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купна реакција : Zn(s) + HgO(s) → ZnO(s) + Hg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пон једне ћелије у батерији  ј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о је HgO(s)  замењен са Ag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нда је напон једне ћелије ј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chem.libretexts.org/@api/deki/files/18390/=310px-Coin-cells.jpg?revision=1&amp;size=bestfit&amp;width=310&amp;height=220"/>
          <p:cNvPicPr/>
          <p:nvPr/>
        </p:nvPicPr>
        <p:blipFill>
          <a:blip r:embed="rId1"/>
          <a:stretch/>
        </p:blipFill>
        <p:spPr>
          <a:xfrm>
            <a:off x="6477120" y="2622600"/>
            <a:ext cx="2465280" cy="1735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252360" y="60199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E= 1.5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228600" y="152280"/>
            <a:ext cx="87058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ејсмекерск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терије које се зову суве батерије садрже мале количине воде у себи јер су електролити влажни прахови, што ограничава њихову употребу у специфичним условима, тако да су развијене и батерије који не сардже у себи воду, већ имају чврст електрол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ав тип батерија су литијум-јод батерије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вај тип батерија се користи у пејсмекери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ода је метални литијум, а катода је чврст комплекс јода 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раздвојени су слојем чврстог литијумјодида LiI, који игра улогу електролита јер јони литијума могу да дифундују L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 Електродне реакције у овој батерији су сл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3320" y="4713120"/>
            <a:ext cx="895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. полуреакција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s) + 2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→ 2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LiI)    Е=+0.535 V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5181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кс. полуреакција 2Li(s) → 2L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LiI) + 2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=- 3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45080" y="56437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упна оксидоредуциона 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Li(s) + I2(s)→2LiI(s)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=3.5 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pacemaker.jpg"/>
          <p:cNvPicPr/>
          <p:nvPr/>
        </p:nvPicPr>
        <p:blipFill>
          <a:blip r:embed="rId1"/>
          <a:stretch/>
        </p:blipFill>
        <p:spPr>
          <a:xfrm>
            <a:off x="7134120" y="5543640"/>
            <a:ext cx="1940040" cy="1187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98280" y="6407280"/>
            <a:ext cx="70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thium/iodine-polyvinylpyridine (PVP) batte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1_04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-458640"/>
            <a:ext cx="9144000" cy="6249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ар ће се спонтано таложити на металном цинку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572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2" marL="1083240" indent="-361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Cu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6"/>
          <p:cNvSpPr/>
          <p:nvPr/>
        </p:nvSpPr>
        <p:spPr>
          <a:xfrm>
            <a:off x="0" y="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н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таложи на метално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7"/>
          <p:cNvSpPr/>
          <p:nvPr/>
        </p:nvSpPr>
        <p:spPr>
          <a:xfrm>
            <a:off x="1508040" y="1768320"/>
            <a:ext cx="68580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8"/>
          <p:cNvSpPr/>
          <p:nvPr/>
        </p:nvSpPr>
        <p:spPr>
          <a:xfrm>
            <a:off x="1508040" y="2454120"/>
            <a:ext cx="68580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"/>
          <p:cNvSpPr/>
          <p:nvPr/>
        </p:nvSpPr>
        <p:spPr>
          <a:xfrm>
            <a:off x="1508040" y="3139920"/>
            <a:ext cx="68580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0"/>
          <p:cNvSpPr/>
          <p:nvPr/>
        </p:nvSpPr>
        <p:spPr>
          <a:xfrm>
            <a:off x="898560" y="2797200"/>
            <a:ext cx="685800" cy="685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898560" y="2111400"/>
            <a:ext cx="685800" cy="685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2"/>
          <p:cNvSpPr/>
          <p:nvPr/>
        </p:nvSpPr>
        <p:spPr>
          <a:xfrm>
            <a:off x="289080" y="1768320"/>
            <a:ext cx="685800" cy="685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3"/>
          <p:cNvSpPr/>
          <p:nvPr/>
        </p:nvSpPr>
        <p:spPr>
          <a:xfrm>
            <a:off x="289080" y="2454120"/>
            <a:ext cx="68580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4"/>
          <p:cNvSpPr/>
          <p:nvPr/>
        </p:nvSpPr>
        <p:spPr>
          <a:xfrm>
            <a:off x="289080" y="3139920"/>
            <a:ext cx="68580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5"/>
          <p:cNvSpPr/>
          <p:nvPr/>
        </p:nvSpPr>
        <p:spPr>
          <a:xfrm>
            <a:off x="898560" y="1425600"/>
            <a:ext cx="685800" cy="685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6"/>
          <p:cNvSpPr/>
          <p:nvPr/>
        </p:nvSpPr>
        <p:spPr>
          <a:xfrm>
            <a:off x="898560" y="3483000"/>
            <a:ext cx="68580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7"/>
          <p:cNvSpPr/>
          <p:nvPr/>
        </p:nvSpPr>
        <p:spPr>
          <a:xfrm>
            <a:off x="3527280" y="1082520"/>
            <a:ext cx="68580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8"/>
          <p:cNvSpPr/>
          <p:nvPr/>
        </p:nvSpPr>
        <p:spPr>
          <a:xfrm>
            <a:off x="2117880" y="1463760"/>
            <a:ext cx="68580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9"/>
          <p:cNvSpPr/>
          <p:nvPr/>
        </p:nvSpPr>
        <p:spPr>
          <a:xfrm>
            <a:off x="3527280" y="3483000"/>
            <a:ext cx="68580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0"/>
          <p:cNvSpPr/>
          <p:nvPr/>
        </p:nvSpPr>
        <p:spPr>
          <a:xfrm>
            <a:off x="2117880" y="2797200"/>
            <a:ext cx="68580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1"/>
          <p:cNvSpPr/>
          <p:nvPr/>
        </p:nvSpPr>
        <p:spPr>
          <a:xfrm>
            <a:off x="1521720" y="990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e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85"/>
          <p:cNvCxnSpPr>
            <a:stCxn id="76" idx="0"/>
            <a:endCxn id="87" idx="0"/>
          </p:cNvCxnSpPr>
          <p:nvPr/>
        </p:nvCxnSpPr>
        <p:spPr>
          <a:xfrm flipH="1" flipV="1" rot="5400000">
            <a:off x="2003040" y="1310760"/>
            <a:ext cx="305280" cy="610200"/>
          </a:xfrm>
          <a:prstGeom prst="curvedConnector5">
            <a:avLst>
              <a:gd name="adj1" fmla="val 174970"/>
              <a:gd name="adj2" fmla="val 50000"/>
              <a:gd name="adj3" fmla="val 1749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86"/>
          <p:cNvCxnSpPr>
            <a:stCxn id="78" idx="4"/>
            <a:endCxn id="88" idx="3"/>
          </p:cNvCxnSpPr>
          <p:nvPr/>
        </p:nvCxnSpPr>
        <p:spPr>
          <a:xfrm flipH="1" rot="16200000">
            <a:off x="2617560" y="3058560"/>
            <a:ext cx="243720" cy="1776960"/>
          </a:xfrm>
          <a:prstGeom prst="curvedConnector5">
            <a:avLst>
              <a:gd name="adj1" fmla="val 235207"/>
              <a:gd name="adj2" fmla="val 49989"/>
              <a:gd name="adj3" fmla="val 23520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87"/>
          <p:cNvCxnSpPr>
            <a:stCxn id="86" idx="1"/>
            <a:endCxn id="87" idx="7"/>
          </p:cNvCxnSpPr>
          <p:nvPr/>
        </p:nvCxnSpPr>
        <p:spPr>
          <a:xfrm rot="5400000">
            <a:off x="2974320" y="910440"/>
            <a:ext cx="381960" cy="924480"/>
          </a:xfrm>
          <a:prstGeom prst="curvedConnector5">
            <a:avLst>
              <a:gd name="adj1" fmla="val -86226"/>
              <a:gd name="adj2" fmla="val 49980"/>
              <a:gd name="adj3" fmla="val -862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4" name=""/>
          <p:cNvGraphicFramePr/>
          <p:nvPr/>
        </p:nvGraphicFramePr>
        <p:xfrm>
          <a:off x="3565440" y="1828800"/>
          <a:ext cx="5334120" cy="1554120"/>
        </p:xfrm>
        <a:graphic>
          <a:graphicData uri="http://schemas.openxmlformats.org/drawingml/2006/table">
            <a:tbl>
              <a:tblPr/>
              <a:tblGrid>
                <a:gridCol w="2284560"/>
                <a:gridCol w="815760"/>
                <a:gridCol w="2233800"/>
              </a:tblGrid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ко настаје хемијски извор струј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0" y="434340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оредукци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лобо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отреб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0" y="0"/>
            <a:ext cx="91440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ни у расв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  C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жу металним проводником и раствори повеж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водним мостом, спонтано ће настати кретање електрона. кроз метални проводник и јона кроз проводни мос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0" y="1143000"/>
            <a:ext cx="9144000" cy="5362560"/>
            <a:chOff x="0" y="1143000"/>
            <a:chExt cx="9144000" cy="5362560"/>
          </a:xfrm>
        </p:grpSpPr>
        <p:pic>
          <p:nvPicPr>
            <p:cNvPr id="99" name="Picture 7" descr="fig17_03"/>
            <p:cNvPicPr/>
            <p:nvPr/>
          </p:nvPicPr>
          <p:blipFill>
            <a:blip r:embed="rId1"/>
            <a:srcRect l="0" t="0" r="0" b="11336"/>
            <a:stretch/>
          </p:blipFill>
          <p:spPr>
            <a:xfrm>
              <a:off x="0" y="1143000"/>
              <a:ext cx="9144000" cy="53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3"/>
            <p:cNvSpPr/>
            <p:nvPr/>
          </p:nvSpPr>
          <p:spPr>
            <a:xfrm>
              <a:off x="2286000" y="4191120"/>
              <a:ext cx="19047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Редукциони аген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 Zn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4876920" y="4191120"/>
              <a:ext cx="21333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Оксидациони агенс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 Cu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4419720" y="2057400"/>
              <a:ext cx="2361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Проводни мо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841320" y="30481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8004600" y="3124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9"/>
            <p:cNvSpPr/>
            <p:nvPr/>
          </p:nvSpPr>
          <p:spPr>
            <a:xfrm>
              <a:off x="1377360" y="304812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- АН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6702480" y="30481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+ КАТ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1153440" y="5562720"/>
              <a:ext cx="91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nSO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5497560" y="5715000"/>
              <a:ext cx="87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uSO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8079840" y="350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840960" y="35053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Straight Arrow Connector 17"/>
          <p:cNvCxnSpPr/>
          <p:nvPr/>
        </p:nvCxnSpPr>
        <p:spPr>
          <a:xfrm>
            <a:off x="4343040" y="4114800"/>
            <a:ext cx="6102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/>
          <p:nvPr/>
        </p:nvCxnSpPr>
        <p:spPr>
          <a:xfrm flipH="1" flipV="1">
            <a:off x="4190400" y="5714640"/>
            <a:ext cx="6865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TextBox 20"/>
          <p:cNvSpPr/>
          <p:nvPr/>
        </p:nvSpPr>
        <p:spPr>
          <a:xfrm>
            <a:off x="2980800" y="137160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Затворено електрично 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4113000" y="37339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4036680" y="57913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57200" y="1295280"/>
            <a:ext cx="5029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ни ће тећи од аноде ка катоди спонт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ни теку од аноде према катоди због тога што катода има нижу потенцијалну енергију од ан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потенцијала се мери у вол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хнички, један волт је разлика потенцијала за коју је потребна енергија од 1 џула да би се пренело наелектрисање од 1 ку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019920" y="4038480"/>
                <a:ext cx="267804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C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485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485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Freeform 5"/>
          <p:cNvSpPr/>
          <p:nvPr/>
        </p:nvSpPr>
        <p:spPr>
          <a:xfrm>
            <a:off x="6095880" y="457200"/>
            <a:ext cx="2514600" cy="2666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1584" h="1680">
                <a:moveTo>
                  <a:pt x="0" y="0"/>
                </a:moveTo>
                <a:lnTo>
                  <a:pt x="0" y="1680"/>
                </a:lnTo>
                <a:lnTo>
                  <a:pt x="1584" y="16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6324480" y="91440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344" h="1152">
                <a:moveTo>
                  <a:pt x="0" y="0"/>
                </a:moveTo>
                <a:lnTo>
                  <a:pt x="384" y="0"/>
                </a:lnTo>
                <a:lnTo>
                  <a:pt x="912" y="1152"/>
                </a:lnTo>
                <a:lnTo>
                  <a:pt x="1344" y="1152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629400" y="9144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643080" y="5176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252920" y="12952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064000" y="23464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04920" y="22860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еђаји у којима се електрони крећу од аноде ка катоди  под дејством разлике потенцијала који постоји између две полуреакције се називају Волтаич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 Напонске 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алва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вија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ку редокс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мери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вог електрич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а          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мпе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улон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секунд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азмерна брз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-ред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азмеран проме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2"/>
          <p:cNvSpPr/>
          <p:nvPr/>
        </p:nvSpPr>
        <p:spPr>
          <a:xfrm>
            <a:off x="5943600" y="4724280"/>
            <a:ext cx="533520" cy="763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0" y="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ЛТАИЧ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НАПОНСКЕ, ГАЛВАНСК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ЋЕЛИЈЕ, БАТЕ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олтаич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ске, галва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 или  батерије су хемијски извори струје у којима спонтани оксидоредукциони процес  даје енергију којом систем може да врши електрични р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ет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процеса  на електродама покре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ећ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н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ксималним корис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 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каз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изво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ците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м напо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W=q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ците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520" y="3809880"/>
            <a:ext cx="2978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q= 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80880" y="0"/>
            <a:ext cx="8534520" cy="70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 електрицитета јед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q= 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радеје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648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ул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о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не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и датој потенцијалној разлиц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W = nF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CS" sz="2800" spc="-1" strike="noStrike" baseline="-25000">
                <a:solidFill>
                  <a:srgbClr val="ff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 Е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ставља електрични потенцијал или напон ћелије који се још назива и електромотор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ршени рад од 1Ј (Џула) одговара преносу укупне количине наелектрисања од 1С (кулона) при потенцијалу од 1 Вол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= 1C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дакле следи: </a:t>
            </a:r>
            <a:r>
              <a:rPr b="1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nF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Latn-CS" sz="32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4:59:30Z</dcterms:created>
  <dc:creator>korisnik</dc:creator>
  <dc:description/>
  <dc:language>en-US</dc:language>
  <cp:lastModifiedBy>Snezana Jovanovic</cp:lastModifiedBy>
  <dcterms:modified xsi:type="dcterms:W3CDTF">2023-11-16T11:09:21Z</dcterms:modified>
  <cp:revision>206</cp:revision>
  <dc:subject/>
  <dc:title>Slide 1</dc:title>
</cp:coreProperties>
</file>